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67A-961B-4F95-982D-37D03FED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EDB-7E34-446F-A436-FD56E5D4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CE6-E027-4B6D-A29D-3121A16A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20C-E091-449A-BFCD-850ED68F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C60-C66A-4EDE-B827-9CBD950F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97D-E3C4-48D5-937F-4F181DFB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04A-7DB3-4B8C-9B96-EFCD5CD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907-BEFC-4F94-80FA-503216AC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712-CA3C-4883-9A8E-603C6D5B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E6D-38FE-43DE-A1DE-E37CACB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810-7A04-4D42-91BC-B850425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B0C-B30A-45FF-929D-C8E053C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CCB-6A57-4095-9A7C-B8370DA6E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932360" y="1844640"/>
            <a:ext cx="3924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vesnakartinki3"/>
          <p:cNvPicPr/>
          <p:nvPr/>
        </p:nvPicPr>
        <p:blipFill>
          <a:blip r:embed="rId1"/>
          <a:stretch/>
        </p:blipFill>
        <p:spPr>
          <a:xfrm>
            <a:off x="1332000" y="1413000"/>
            <a:ext cx="2917800" cy="44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егаю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выполню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и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обери пословицы.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дчеркни орфограм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3640" y="2276640"/>
            <a:ext cx="396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здоро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бро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о (не) го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2276640"/>
            <a:ext cx="4043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друзья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(не)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тяю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ш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  дру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в  б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р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знаеш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о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тяю   всегда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бери себе задание по сила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уровень. Запиши, исправляя оши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Кашу маслом испортишь.  Лож человека красит   Здарове за денги куп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уровень. Придумай и запиши три предложения о том, что ты не любишь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758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овые знания получи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как называется эта часть реч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роль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 в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до помнить о е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исании с глаго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_html_m7eb46e96 (1)"/>
          <p:cNvPicPr/>
          <p:nvPr/>
        </p:nvPicPr>
        <p:blipFill>
          <a:blip r:embed="rId1"/>
          <a:stretch/>
        </p:blipFill>
        <p:spPr>
          <a:xfrm>
            <a:off x="1403280" y="981000"/>
            <a:ext cx="6618240" cy="498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  урок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0" y="1628640"/>
            <a:ext cx="41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vesnakartinki3"/>
          <p:cNvPicPr/>
          <p:nvPr/>
        </p:nvPicPr>
        <p:blipFill>
          <a:blip r:embed="rId1"/>
          <a:stretch/>
        </p:blipFill>
        <p:spPr>
          <a:xfrm>
            <a:off x="1258920" y="1557360"/>
            <a:ext cx="2917800" cy="44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9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ав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 глагол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img1"/>
          <p:cNvPicPr/>
          <p:nvPr/>
        </p:nvPicPr>
        <p:blipFill>
          <a:blip r:embed="rId1"/>
          <a:stretch/>
        </p:blipFill>
        <p:spPr>
          <a:xfrm>
            <a:off x="324000" y="1484280"/>
            <a:ext cx="4537080" cy="339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859280" y="1916280"/>
            <a:ext cx="374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esnakartinki3"/>
          <p:cNvPicPr/>
          <p:nvPr/>
        </p:nvPicPr>
        <p:blipFill>
          <a:blip r:embed="rId1"/>
          <a:stretch/>
        </p:blipFill>
        <p:spPr>
          <a:xfrm>
            <a:off x="1042920" y="1341360"/>
            <a:ext cx="305604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пиши глаголы,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раскрывая ско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гостей  сегодня ж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себя вед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лим,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б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пости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в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все повтор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s"/>
          <p:cNvPicPr/>
          <p:nvPr/>
        </p:nvPicPr>
        <p:blipFill>
          <a:blip r:embed="rId1"/>
          <a:stretch/>
        </p:blipFill>
        <p:spPr>
          <a:xfrm>
            <a:off x="539640" y="2060640"/>
            <a:ext cx="385308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сегда ли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с глаголами пишется раздельн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90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ает всё же, что 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сем без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, куда бы ты ни шёл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им вместе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3970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08"/>
          <p:cNvPicPr/>
          <p:nvPr/>
        </p:nvPicPr>
        <p:blipFill>
          <a:blip r:embed="rId1"/>
          <a:stretch/>
        </p:blipFill>
        <p:spPr>
          <a:xfrm>
            <a:off x="755640" y="1413000"/>
            <a:ext cx="6827760" cy="512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65530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навидя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укол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годую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гда им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здоровитс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спределите слова в два столб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3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бегаю,     (не)выполню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годую,    (не)пришё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не)навиде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здоровится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7:58:51Z</dcterms:created>
  <dc:creator>Aleks</dc:creator>
  <dc:description/>
  <dc:language>en-US</dc:language>
  <cp:lastModifiedBy>Начальная</cp:lastModifiedBy>
  <dcterms:modified xsi:type="dcterms:W3CDTF">2020-04-18T07:41:35Z</dcterms:modified>
  <cp:revision>24</cp:revision>
  <dc:subject/>
  <dc:title>Тема :   ?</dc:title>
</cp:coreProperties>
</file>